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24C1-F8DC-4C2D-9005-8902C659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5A0-49E9-4CEB-AE3C-0E587E0F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3CFD7-F475-4851-A2C5-CA88BC6B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93BCC-2DF7-4914-BF4D-0F6C719F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D34C8-9C8D-4D71-8943-3B6EB745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6594C-C4A1-4490-8DE3-0BB1B21F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C8D95-AD3D-4098-8D2B-B5746BD0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CE4E5-BFDB-4D9D-9252-BBC0CE4D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B4D21-31E1-46E3-9631-B842B8C7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DA8DA-9A4A-44DF-9A76-8066524A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6FC98-B260-45FB-863B-844AE97E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7C4F1-4083-4F7E-AAB7-8CB1A4E8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DAF-9E7A-4598-9A6A-59AA8140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26B6B-FEE2-4927-B90D-DBD55037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C4DBE-7DF4-4A0E-84FB-0EC115B1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C93F2-2578-4F9E-9B5B-C82A8BED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FAF3E-885C-43CF-B837-127430DC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23270-F050-4FD8-BD7B-44514B08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63EF2-AF84-4CBF-9CF9-45F782E0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0E83C-A233-4ECA-B762-EACCE4DB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02CDC-3E46-49F2-B455-A3A6E6A6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F1A9E-A4D1-4BC9-9D7C-29D4A402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79C8C-8113-4527-B9F2-F31CAF15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02F-ABA4-4755-9872-6FF4285E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A69B1-CD90-4A6A-A4A5-81B00405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8B36E-4FA8-47FE-A244-168C0889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B3B69-1188-432F-ABC2-94E922D5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82C02-7191-46C9-BB9B-80602570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33EAD-0AA9-437F-9FAE-E10E7960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BB5DB-3FB8-4641-9A7E-D90778CB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B6510-068E-4693-AA6A-A3D5EE4C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FC184-1821-4263-B0F4-99BB7737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6F601-AC4A-4D70-8A69-C76DAD83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2D91C-883F-409A-B20A-60993CF2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82FF-4914-4A52-A89A-7F78EA22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0D441-C9EE-4495-898F-725F8917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4087F-BB66-4AB7-8D65-E2B3A2F7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A0CB9-598A-4F4F-83A4-66AAAA84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F586A-8525-42F3-A751-61AA303F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00F9E-1990-4A2D-9463-110E1A04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FE5AD-CC13-4928-9E4D-B1820D6B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696A4-DC78-4D53-82EE-F226FA63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BD87C-9C84-4FF3-A1CF-B912B373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0207A-5FF1-44A5-88CE-4C45012B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C672A-708C-423E-8638-9DA722E5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EF41-9B4F-4224-95BA-2D02026C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CD902-4A17-4486-BB8D-902A7042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E69E0-7339-4465-9139-81C6069F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BC114-B11E-4BBB-A20E-4CFAEA60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6D58B-66EE-4185-B9FB-A65528B0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97842-7F2A-4CBE-9A6F-6CF81023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32E680-4B52-42DF-9831-65D87A4B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EF544-7BEB-441B-BB49-44E89D80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9D27F7-1CFA-4E93-BC8B-A75A5C06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F4DB6-A0DC-40FE-8050-25D31880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90BB9-B40C-489D-A13F-C8103407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C0A7-3D17-4C3C-B8BE-AE32950C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5BD79-FE73-45B9-A47E-E3DF54A0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00BC5-07BF-4368-893C-7A676138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D66D2-D5F7-4FD8-B709-76B862A1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EABF9-0B30-4F62-8D25-F72A54A8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8A912D-BEC8-4437-BF97-2901D1B8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C45AB-DD55-44C4-88C7-8FBB68F4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61FEAA-2D98-4F4B-BBA7-5DB5678B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2E09B7-ED59-46B3-9E8E-3FC8A60D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B23F2C-0383-40FF-807C-13D674C4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3AE54-9896-48D0-A501-6BAA4595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E562-FD39-4A2D-BE88-656213DD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98282-417A-4E00-802B-2995B34E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C242B-F98B-455F-8998-C0CD3C41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1EDA8-7C6E-4C7C-8ED5-BAC4F048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F1044C-2CEA-4EA3-8124-2FF11E20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309908-D26D-495F-8036-EC60AD88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411889-EADA-4F29-986D-17FEA7B1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90D9F-F46F-4007-A184-0C77BA7A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E2F983-5F1F-4AE9-A590-22EDC695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91EEA3-277E-44EF-A36A-86BF4B51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775338-97A2-4BDD-8578-B1F66169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C595-0BFB-4CBE-B148-463CAE71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AEDA96-4078-4667-9ACF-FEB15BD7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512B7E-B9BE-4D27-AD94-F10B623E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EE58CD-F85C-4916-A827-9EBE4432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70562-031D-4BF6-A613-734C5B0E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4B9BC9-0EEC-4A57-AB88-811EBCC6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DCDCD2-1DF3-4204-9E03-0FF2454B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6852B2-9C61-4CE2-8CAE-13581427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4F97A5-6AB5-4E8B-B829-90D100B1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AD1047-0758-4EE7-B25C-660E6BFD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18A42F-3644-4C3C-A656-107B107C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42B9-3C07-46E2-B13F-57C7852A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50A03-FA28-4D20-9968-A9F02AA4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D13EE2-70E3-4295-958E-1314E7CE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2326C9-A5F8-4D29-8304-58309A60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094D0D-BCE5-457E-BBA3-DCCB5A76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428C62-51B9-441B-B4FB-BFA29659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D9AA92-7063-4C32-9ED5-A229CA79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83A41-3523-4976-8CA5-10D95C0C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2C99B9-B392-44ED-9AD1-F9319741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31F2C6-6EE3-4A33-9328-D5F462ED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B66080-8A54-45E3-9D28-A52CD313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0682-CB71-4012-BFA5-CCE2ECD3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BC6C1A-2C29-40FE-987E-6E65A9FF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F416D6-EB2E-4B83-823B-015A1280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125593-F4B4-40CF-8925-167F5449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D1871A-02B9-41B8-967D-E8B4CC9B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BCCCFF-08BD-4654-A6B2-9E0E3552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E0224E-97B5-4250-97DC-1A2B2607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7DD86C-9E24-47BC-8FBB-06AFCBDC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A63D45-FFC8-4EF6-9FFF-F532EC25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37BDD5-FC05-4C23-AF5D-8F6A7C1D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59C3DF-8439-44A4-AF86-A411E251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DD9-407D-449E-A0E1-3F69CCA8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A0FE-4FD1-456F-A70D-6F7C68D7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D78200-B867-44BE-9CAD-1EE87450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2F2FAE-0765-488F-A6B7-118A904C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E79F65-26D0-497D-9B66-9B1511C6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47427B-6A92-4041-A75E-62934097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4ED3DF-A6BC-4D45-831B-EC2BA851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14073D-559D-4DDC-B030-38F985E3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988C41-A024-4F61-979D-CB8DE45B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8A6BFD-199A-40F0-9C31-04C9091F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F65830-FB3B-432B-9450-60B99869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D07184-F6D6-4920-BD5A-33366423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3E6D-3AB7-4667-9A46-C67E9C52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980FFD-40E7-4A76-97EE-324245CD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5520A7-F357-4A46-9CF8-20E881FE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F76516-B6F6-4501-A384-ED8BFD19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3B8856-1183-40F9-8265-9C9CE0D6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15F5F4-D3F5-4F42-BDB2-CC724AD4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D4BD1D-142C-4988-B1E1-F5D66F1F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46AEAB-E9CC-4185-A369-20CC1484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70A797-CDCA-4249-8966-07D02D37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F72192-B6CF-46D9-896C-D1D2A1AD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D3811A-3F6F-4CD2-A02F-F441F0AF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069E-E5A5-494F-A23E-A42F474E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3ED0E5-F974-45E3-8C2A-769E2D01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D687E2-90C2-475F-8447-129BB6DE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A5DD83-2775-4BAE-B097-3C09AA53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ABB4D9-2B49-4AE7-85B8-E8D4C1D8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A5E56C-501C-49B4-AEB2-6697E3D3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892792-5AA9-4D0D-B5B5-4B85E949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0FF220-F73F-4237-BBD7-BBE120FD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B526B2-DA8E-4F87-AA2A-DC5B06B7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B91676-B5DF-4BFF-96C1-44696058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B4F150-A614-418D-83E2-44F30A71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034D-0229-485B-91B9-71406A27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A6A29F-D81A-4A3B-A267-EB79FBAF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CF4D7C-8028-4A6D-ADFE-6FC42990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A6DC1D-0750-415D-B4B8-A4AF510D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E31B2A-6792-4742-B662-303BA710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2D64E7-D672-45F2-A220-BAE691B0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7C2BFD-5257-4C2B-B098-D95337B2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BBAA2A-A1A4-4E84-A259-FC4111D9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672332-AE20-44BC-8C43-82DB8D7A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110CAA-5E4B-4034-A5E1-C4803229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EE2E23-461E-4745-8D7F-954D545A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0F81-A12E-40E3-B6E4-3589C602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87D462-1ED9-4790-B2C3-C6E8641C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D5568E-9E13-446C-92E0-770541BF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91F736-A857-4B78-844B-9FAC43FB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1C3C60-70D5-45E9-8795-EC0286FC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06F347-8382-4462-A3B9-33CDC654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BF8E94-4998-4700-9B8F-B9DEFA9E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A05BA4-1500-4239-9D25-31E814EE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0AEB2F-7315-4F67-91E7-C2548E31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A6DEAD-FEBE-4B05-9C53-79D338B0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52D85B-2298-4BD5-AA20-454B2E83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16214-E197-4B3F-B651-23BDC9CA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D75FB9-270D-498B-9DF8-3D3151F5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8E5196-9C9C-4200-B951-59EBFA26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5087E7-745E-4289-B6BD-82C88FA7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D045C1-ACC1-4C62-BD66-4DDA78E6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066657-8555-4DAD-9E44-44D9AE5C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E25F4B-7675-46B7-99A5-1B385A4E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58FC5D-53B0-4734-9DEB-483559DB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1EA630-0CA7-42C6-B27D-EC3FE8FE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71B42B-C522-4E05-8FC9-AD6FB3AE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C9CFD8-6088-4DEF-B331-2F3F9CA5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A2D7-08CC-4EF1-9548-4F95FEC8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F14A13-BBF3-40C1-8720-34A2AAEF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68E2D4-7038-456E-BFDF-D3A9A6A0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FA2C6B-8001-4845-ACEF-B3A727AB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BA74CF-E8FD-4EB1-89B1-F4AAA90A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C74EC2-72E6-4F55-83BD-F8E18772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901D3E-6C93-4789-BE8E-45BECCEE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E5D8CF-D652-4E3A-B155-6A8CEC7E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762C59-C76E-41AE-84B7-54113EE0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63E010-358D-42F5-B1A6-1C095F04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78BD1F-9767-4FA8-92C6-F88860F4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BCAAF-63F7-4B68-9FAC-57A94199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EB08BB-771C-4435-B741-52655311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C0292E-A210-44E5-9802-9387CB7E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14915D-B91A-4DF7-9A40-99700FBF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1A6247-8769-478A-8AC5-7675584B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9DA16E-9ADE-41B4-B4AB-50D45B65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C59297-B1CC-4493-AB9F-9EBE20F3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612FC8-430E-40ED-8756-C60F5CAF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1D989-7E2D-43DC-823C-2AE37B38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C251D-A5E2-485F-B5DD-FDFBC5D4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630-C552-4F15-964C-B327E82B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BDD47-567E-456B-A1D6-E8743863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FE4F7-3494-4EA4-A6D3-C3CFB72B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F30FB-6821-4053-B0CC-1D89A53E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F42E7-E99A-49E8-AAA5-49F809A7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88F97-1F78-4643-84C7-BCCD8695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E9556-BB2F-44D6-A6A5-F93F8450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FE870-F755-4D13-A4EB-89A5C1F0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BD687-3F01-41C0-B755-2285D578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E579D-969E-48B5-B502-C89D5B24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1C67A-2AC5-4D99-8925-49035F23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1E9B-8D20-4486-98CA-1B9AEDBA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3B7F4-F69B-40BE-BC2A-77883D63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8CA27-720B-47A5-B0E2-D435DAEB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DF156-928D-46A6-9F53-98C6C157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CDC67-9782-4B55-ADF0-CC3DC2B9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3B1CE-959C-4A94-9B43-497D80AA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C0F02-8B34-4AB1-A71E-A2413634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E862C-07F4-401A-A566-B06F2FC1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1670B-AFDF-48C6-8196-41749409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DFC5D-79B6-4130-8291-E5B62E46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CF0A1-40F9-4073-91A5-62CF6639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D52-4277-41A3-8973-DA3EE31A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C6A1F-3F6D-4F38-96FC-97B46D70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0EB20-D912-4B6E-9457-FF1B6494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5829E-A55C-4AFF-A181-66A0BE82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3D9A8-2902-4F45-B8D5-BA60B87B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CEFA5-A3F6-4FFF-9197-A0EB9AA5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A1DD2-644A-456B-859C-4818AD00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F5E47-D202-448D-BAB4-0F4B1CED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E7F17-A6D8-4B88-AA1C-9825E871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2AC41-F6B9-49A0-AB88-28C71585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C0AE1-2873-495B-9B3F-A9B07C6C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9A5-E9A9-41ED-A420-C0CC815E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20C04-4909-41C9-81CC-AC81F034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8230F-362B-4D9E-9254-DE8E11A0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AB553-A585-49FC-944C-7BB7F614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3EF79-C48B-4869-92C9-853AEB37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FAF74-2DBC-4939-BA14-9768C7ED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69269-0E18-4E1C-99F5-9DE95A7F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CCC6B-1DAC-443D-AB66-2A6A3BE0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74283-09E7-4038-B788-CD4D9A5C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8273C-723A-4DE6-932C-8C29FB3D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93BE5-FDB7-44D8-B33C-841363E3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2FF-CC96-470E-ABBC-F0EF467E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81FF8-FB78-4A27-A4B6-A012C19F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13428-8CAC-480B-9533-6AE1A5F6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D6D07-78A4-4434-85C8-9134614B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46F49-5C24-4954-8776-3A4AD39A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7A0C2-D278-46A6-A8C2-CD565B05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F12ED-66B7-4D25-9A0F-FC880A16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1761E-15F2-4B9F-BCFD-C3D633F1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81AC0-6D42-4E1E-A1F6-25EC23F1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00527-F8E1-4506-87C5-DFDFECBE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775BC-044A-42ED-962D-B184B4F7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228-70F1-472A-A037-A5B000E8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A051B-1B1D-494F-9A58-AF83A4F9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543BE-3AAB-41D4-B06B-CB510363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56579-95D5-4F34-8497-F1F69C98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09208-10B6-44FC-859A-CAC9381E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5D2E8-F32A-4547-B817-4A636BAE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BB001-8EA6-4D48-A4C8-DC1BB03A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CA53C-5E24-46EE-8D1D-C8382A8D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BE809-A895-4100-A4A7-74153F9A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B5489-E25E-48E2-AF84-33B306E2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26CA3-F834-49E5-A1F3-C9D40D23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A1C-27D5-48CA-A4F0-4E440AB2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9AA22-C30B-4032-8A5D-C3A5CC81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96F8B-F382-4085-8AB8-BED8FA09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933F0-2CC9-47DC-A756-EFE5D58F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3D35B-5EFC-4719-BB11-93532D7D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6932B-6CA1-4419-B620-F9A203CD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1C68C-56FC-46FD-96F2-AC412922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D6F27-8167-414C-8BA7-62C6487B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A53E6-70EE-46AD-A706-02F8C46D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E6DE5-C1A1-4BC1-AF5C-805212D5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C0E86-02DB-41DC-A938-07089CE5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382E-5C23-4CB5-A51A-78B07D0A59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AAE2-BE7F-4F53-92D1-47813B3D80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97AE-2DD8-4BBD-95E7-2549FB3A53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EC1F-C9F4-4C48-884F-4A9AEAE09C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55B5-4A2C-47CF-8DA7-6FEAB313B7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2A3E-C283-49B0-A778-4ACC112717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2838-3069-4F65-94AD-49D490938B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2E3D-9616-4E68-A012-14C196D241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493E-A3F9-47A2-AA7E-F2CC5AF6FF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9B35-599A-4D45-9D4E-DB603FF4B6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0204-5B79-448E-BD76-86FFA431E9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DE90-276F-4216-A59D-1692EBB377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988B-B9CB-495E-8AF7-482CBC84DB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FB93-BE45-4EBE-B561-D9039B0AE3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6DD5-514E-4B27-AC19-5852A6EE6C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70A4-8950-46FB-BF31-94D9EBBB43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05AE-8CF8-4DA8-BB18-99CD3455EE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E082-F199-44ED-9743-EA21D74266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2A26-6E13-42BD-AFE4-F8FD561981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835D-C189-439A-8053-DC04BFEFA8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3816-5711-4682-90D1-2193D9D6C0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E498-ECD3-4F1F-8E24-6AA8B6F39E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8221-6BEB-4E2A-BF54-AF309F0ED0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DE38-280C-4A7C-95BE-9DFE8944F1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95D0-82EF-44B3-8FAC-8F37756075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088F-DD94-4336-B29D-5BC4ACBA2C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D467-081F-4D2E-A75A-035978CC02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C299-A0DA-4932-AE83-5D427078B6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4D9F-30A5-41F4-8F8E-A369AFF5C1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6FA2-BC7D-4525-BBB4-E386879DE4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C96E-43ED-4E4E-AC28-C301333C51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BE47-40A2-4CE9-BE5A-0E4BFB2DAD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049C-81A7-46F7-8FAA-475FBBDC28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3A92-8995-479A-B073-B331508298D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93AB-20F3-49B6-9B84-655F169CFB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0253-F02A-44C5-8FBB-AE0C2DF679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1562-F1F2-4021-9CE2-790B68B41D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2031-A796-47B6-B4FD-66D992CBE2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B15B-B44E-463B-A5BF-27E4D5AC1D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DD19-016D-42DC-B2A8-36EC1A1A7E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B7A3-625B-45D4-BD86-BD85AEB900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AA68-25D2-476B-A460-3A090370A5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357120" y="2597040"/>
            <a:ext cx="804708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60" name="图片 1" descr=""/>
          <p:cNvPicPr/>
          <p:nvPr/>
        </p:nvPicPr>
        <p:blipFill>
          <a:blip r:embed="rId1"/>
          <a:stretch/>
        </p:blipFill>
        <p:spPr>
          <a:xfrm>
            <a:off x="247680" y="952560"/>
            <a:ext cx="8648640" cy="49528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4535640" cy="4478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4535640" cy="4474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942840" y="4278240"/>
            <a:ext cx="45356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66" name="图片 1" descr=""/>
          <p:cNvPicPr/>
          <p:nvPr/>
        </p:nvPicPr>
        <p:blipFill>
          <a:blip r:embed="rId1"/>
          <a:stretch/>
        </p:blipFill>
        <p:spPr>
          <a:xfrm>
            <a:off x="635040" y="1260360"/>
            <a:ext cx="7734240" cy="223848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2" descr=""/>
          <p:cNvPicPr/>
          <p:nvPr/>
        </p:nvPicPr>
        <p:blipFill>
          <a:blip r:embed="rId2"/>
          <a:stretch/>
        </p:blipFill>
        <p:spPr>
          <a:xfrm>
            <a:off x="77760" y="4075200"/>
            <a:ext cx="8987040" cy="20923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4067280" y="1844640"/>
            <a:ext cx="865080" cy="4478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4097160" y="2478240"/>
            <a:ext cx="865440" cy="4474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5"/>
          <a:stretch/>
        </p:blipFill>
        <p:spPr>
          <a:xfrm>
            <a:off x="7407360" y="1859040"/>
            <a:ext cx="865080" cy="4474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6"/>
          <a:stretch/>
        </p:blipFill>
        <p:spPr>
          <a:xfrm>
            <a:off x="7437600" y="2492280"/>
            <a:ext cx="865080" cy="4478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7"/>
          <a:stretch/>
        </p:blipFill>
        <p:spPr>
          <a:xfrm>
            <a:off x="1747800" y="4524480"/>
            <a:ext cx="865080" cy="4474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8"/>
          <a:stretch/>
        </p:blipFill>
        <p:spPr>
          <a:xfrm>
            <a:off x="1619280" y="5157720"/>
            <a:ext cx="865080" cy="4478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9"/>
          <a:stretch/>
        </p:blipFill>
        <p:spPr>
          <a:xfrm>
            <a:off x="4643280" y="4551480"/>
            <a:ext cx="865440" cy="4474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10"/>
          <a:stretch/>
        </p:blipFill>
        <p:spPr>
          <a:xfrm>
            <a:off x="4788000" y="5229360"/>
            <a:ext cx="865080" cy="4474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11"/>
          <a:stretch/>
        </p:blipFill>
        <p:spPr>
          <a:xfrm>
            <a:off x="7524720" y="4581360"/>
            <a:ext cx="865080" cy="4478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12"/>
          <a:stretch/>
        </p:blipFill>
        <p:spPr>
          <a:xfrm>
            <a:off x="7524720" y="5172120"/>
            <a:ext cx="86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262080" y="819000"/>
            <a:ext cx="8619840" cy="52200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5003640" y="25509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4"/>
          <a:stretch/>
        </p:blipFill>
        <p:spPr>
          <a:xfrm>
            <a:off x="5076720" y="3227400"/>
            <a:ext cx="79056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5"/>
          <a:stretch/>
        </p:blipFill>
        <p:spPr>
          <a:xfrm>
            <a:off x="1663560" y="3500280"/>
            <a:ext cx="2044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380880" y="2104920"/>
            <a:ext cx="8382240" cy="26481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2843280" y="2736720"/>
            <a:ext cx="1441440" cy="39060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3260880" y="3203640"/>
            <a:ext cx="1441440" cy="3459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6199200" y="3127320"/>
            <a:ext cx="863640" cy="41760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5"/>
          <a:stretch/>
        </p:blipFill>
        <p:spPr>
          <a:xfrm>
            <a:off x="7524720" y="3557520"/>
            <a:ext cx="86364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43000" y="1219320"/>
            <a:ext cx="8658000" cy="44193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1403280" y="2708280"/>
            <a:ext cx="1800360" cy="20160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2771640" y="1989000"/>
            <a:ext cx="14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5651640" y="2722680"/>
            <a:ext cx="2376360" cy="27939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7280280" y="2003400"/>
            <a:ext cx="1612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704880" y="1433520"/>
            <a:ext cx="7734240" cy="39909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1332000" y="2421000"/>
            <a:ext cx="2160360" cy="29527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2800440" y="1700280"/>
            <a:ext cx="216036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5443560" y="2421000"/>
            <a:ext cx="2160720" cy="29527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6912000" y="1700280"/>
            <a:ext cx="183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42960" y="1552680"/>
            <a:ext cx="7858080" cy="37526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2664000" cy="30243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2700360" y="1700280"/>
            <a:ext cx="208908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5283360" y="2349360"/>
            <a:ext cx="2663640" cy="30243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6940440" y="1700280"/>
            <a:ext cx="17352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890640" y="1104840"/>
            <a:ext cx="7362720" cy="46483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547640" y="4365720"/>
            <a:ext cx="61930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1619280" y="4970520"/>
            <a:ext cx="619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223920" y="1900080"/>
            <a:ext cx="8696160" cy="305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590400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826920" y="4033800"/>
            <a:ext cx="6913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252360" y="1552680"/>
            <a:ext cx="8639280" cy="37526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4751640" cy="447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4751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35:1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